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8326-E839-47FB-A553-6B34DE4A5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9D1-FE14-4E98-9E7C-76E1EFB3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53F-0369-4724-A258-6BE9F65E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E3392-E2A4-4C52-B9FA-039401EA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D29CB-8ABC-4B28-A5BD-0087D0F1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85659-08F8-4454-87CF-212C2DE0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4C49A-2605-49AF-AA06-E9F888FA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A1B75-DE08-4416-B738-6C157A2E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BFC8D-DE38-4610-AD89-09CEE656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77940-6F58-49B9-9E36-D5898005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958D7-D5F4-49B1-9AA0-8DCA191D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B9929-0F7B-4202-A7BD-2F52B9CC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4870B-F5D9-4664-AE34-3DDC680D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AE9C-1B93-4F1C-BB1C-1472CD9A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ECD3F-75EE-4B56-A81F-55D0A85E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1F8BB-8BF2-401E-AF85-54FC96DF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28326-FB2B-4237-8D82-FDAFB289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82A45-998D-491B-8EFA-2791A6B2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9AA78-5033-4322-8917-9B9DC907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7E469-EB54-481A-815C-94723A09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92320-23DC-482C-A46D-147103E6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F4015-8F2C-489E-8A0C-64FBEE06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E7913-7F5A-4B3A-99C5-5B29FEC5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9EB56-79D9-40B5-9744-86EFE288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F1F-0088-4AEA-B9BB-8BB5154D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EFF5D-75D8-4CE7-8A37-497A6BA7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D8FEC-7F79-441E-84F6-60024214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37A25-0268-4299-AA63-A59359E6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640E8-12AA-4C05-9E6F-E6AB8757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4A22A-55A2-4736-A37B-9F79945A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2D1AF-E23C-4A97-AD14-D30A8EDD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530E0-2D07-492A-96C1-D39D5502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4AAD8-FDAF-4346-AB8C-A8035567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413B7-481A-4B0F-80AF-FAE75127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48044-D83D-49A7-953D-98C3DB40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8E7A-ABE1-4B72-A4E7-D2E35E8E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03122-07CC-4424-B802-FB203BCF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A6937-F8E0-484C-8D6B-4083C48F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35E47-3BFC-4B9C-9AC8-31B59FF2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649B0-D707-4E93-9992-03F3E3C2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3AD60-BC21-42E1-8AE1-CDD021C8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EEDD7-5C9A-4D3B-897A-CABE7E08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ACFE6-07FB-49F6-91E2-9B640AB8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C569F-3133-4D57-8706-A99151DF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A779F-9AB0-4DC2-A985-A1B279CE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4F962-374A-419D-B236-00508EE0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2E26-B081-4E8B-86D9-922DCD1A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58DA7-E6ED-450F-9E60-26612CDB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EC087-6901-4CD8-A3DF-8E7B9A4E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6BD7E-18BF-421C-A17A-94649DA0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565F4-1D3A-43C1-91FC-4178343A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24ACB-E77E-4A2A-A2BF-3BFC78B2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29B4A-E4E2-4D65-88C9-EE3B78B9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0B34C-A224-4B94-B6FC-1E6D8269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CE5A2-F2A5-4D28-900B-B0F68D8E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1A6D0-43C1-4C52-ABFC-E5DB0C30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69A0D-0575-45B5-B403-FD3138A8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3537-87C8-4393-8F5F-4A023F3E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010C4-3382-4CD5-A9E4-3E9AC7E2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D2E07-C970-4723-86CE-61DE6AFC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5037F-1DE6-4CA0-9723-9D9A265D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68FD1-F792-4144-872C-050B7166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00E42-3A0F-4CC9-84A6-0A76DDB2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CED48-250C-4963-AC58-D02C5F31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46E21-2E86-440F-80CD-D1BE00B0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036B6-914F-4506-BBC0-37CE7813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B27EA-B23A-4919-A561-3F4DE363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10D09-0922-4EC0-8EE1-38571C08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039A-FA50-4087-B8B6-439F8416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901B8-4C42-4483-9902-B5AED189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F6292-B749-4A4E-8C52-9FFD5419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512A4-7AE6-4843-B9C6-D612E964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D8D98-16AE-40DC-A75E-C221AA13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F5F42-DC1E-4328-82A5-5609A8E4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82A57A-3F35-4EE8-A962-6948E622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21078F-3D49-46FC-A30A-BDFC4DD7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95C3AC-E389-40AC-AF90-4CEE3736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A23D2-BDCF-44C9-A329-AC471C47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C7D7-E985-4783-AC43-481D3511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7FED-695B-4574-86D1-479D9446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E8AB-18A1-4B9C-999F-5B0F3D1C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566-F0BB-431C-8207-A081FB02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2243-3E4C-4D4E-8816-1479AF5B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B9B6-39C8-49F2-9EF4-D197E8F4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7EF6-BCE7-4E74-9146-F942A992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3933-CA40-46CD-BFE8-A84808E0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7591-F827-40E3-B977-BF2AD787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0D62A-3566-4E8E-99A7-F5242B46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B8EBA-E10F-4D3E-B84D-AC24D49E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79352-5D72-43B0-B011-8A132631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63467-1FFA-4411-8BFD-BBFF7542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B089-3F39-4F73-9BB8-7628084B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161-803A-4412-BA51-7F1FD416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F26A1-DD05-46A5-BBAA-12F6158C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6DE6F-3F73-4EB5-895F-7780533B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94AFA-0215-49CC-8DAD-14C65886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1BCC4-1139-45BA-97BD-5C61C076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89D3A-6D57-4549-B426-EFA6E8B7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D64F3-26EC-4201-BDB3-183B636D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6E933-6E81-41A7-B233-DA2D1044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F323B-5E4A-4F45-B4A5-2F11A8F5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F38F1-8113-40E8-94B2-58D83294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9A631-979E-43F1-A72D-1667A74B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421-E965-4B75-A45F-B69026DF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73B1E-B7AC-47D5-B4F5-9C81F937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99E73-BEE4-448B-9B46-CE0F2E80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601B9-9B50-4970-BCC7-07C26676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1BF01-84BD-4ED1-BDFF-155F78FC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B9122-9873-4275-B1F9-28A046F3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A2CE9-0A58-437F-B484-A7D3E1AE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AB417-5B28-4967-90C5-89A37009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8952-98F0-4FE6-98BD-AA42F12D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C84E2-006A-4683-9795-94BFF084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44C3A-C3CA-437A-BECC-8EAE9204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FE9-1591-4615-ACBE-462F8E54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61896-02EC-428A-B854-80D8EC09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35ECF-2796-4B03-86FB-8F8A9D5F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3E42F-5300-419C-827E-EE07DD22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A9302-9E0F-4980-ABAE-5DBF50FD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E7D97-EC50-4CCF-861F-8072253C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A1643-E17E-4C8F-A5EB-DF400E31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22E1F-5430-4465-B20E-29F477EF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90AA0-F9EE-4E4A-8617-AFD0B8FD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25E0B-6629-4EC3-90A8-DFBD4E2C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3CA1D-B247-4CFF-8A28-3B0C8ED3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F5C-EB7C-47D6-A22B-DDA3036E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10506-B4C2-484C-A021-801FB259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AF999-CB1B-4504-8622-F987AC94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52FDF-32A4-40D4-98D9-D3FB791A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36FBE-2AFB-4700-B600-21CEF26D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C73A9-7FFD-4024-B751-230BB903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8A5C3-466F-4326-9AA8-31029CDF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8FC43-9A50-4B19-B2DD-3388F403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37436-733D-412B-B3EC-8C1A028E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EED62-F4EB-4F95-9A89-0B9A34A6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358FF-9F9F-4A97-B0B5-89E0C570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5A0-2071-4213-9852-8A4D9BB4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EA8F3-45C0-4E12-84A7-9D369BF8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0753B-5EAE-44D3-940C-336B280C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D73D6-BCC5-48DF-A341-FB8E8CBD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0A42A-8204-4A75-B316-AC77D741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5E17C-B6E1-4734-AB4B-685034DD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5C0DD-1359-414B-82F7-8C36C515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EA207-0896-464F-92BF-1F47E14C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AE825-A0F9-4B50-816C-3CFE8D7E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96AA5-2DDA-4D2A-B73D-2B12AB22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1E1FC-0E25-451C-AD9D-96AA242D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FB1-BAE6-469A-89EB-23DF5C33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FF381-DFEB-4851-8AA4-12076D7F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395F8-D488-498C-BEF0-A2A81819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E579B-0B29-4505-BE94-0068469A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3A5DE-6C88-4B13-B77E-6F865584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1C2A5-4C24-4439-81EE-53AF689D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986B6-A2C3-4433-863E-44BB4C0F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509D6-A720-4196-A655-B61FD2B5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35547-C5E9-4F6B-8141-DA83874B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62CF6-D86D-42A7-BE2E-69232F7E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48D5E-1556-44D1-BCA6-75B8A077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C1D-A13C-44E5-B380-06D63D85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09F17-6DAA-4B3F-BF71-7CE6CCB5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909FB-E657-4FF2-B78E-899FA550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C4AAF-8C03-4FDA-B930-B65C786E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98013-2864-46F7-95F5-F1162D15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2B301-2EB4-4BA1-96A0-CE80236F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0EB9C-A6AD-42BC-8504-3ACF1456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DC5C5-54B8-495D-B86E-97753ACB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47B31-C2D0-4C84-97F4-B65063BF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0FC9B-76D6-4DCF-837D-48E864D0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E0846-E005-410D-94D4-2F54913C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969D-1FCC-470A-B835-C46FC5A5B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D0ED-3A08-4911-A44F-8B7BC4526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001B-CA80-4FE5-BBBB-EC4C262C8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FD04-7471-4E7B-8600-10B53DBB3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3CB2-B14B-4624-B4FE-82F4EE705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7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270F-8B7F-4F34-9102-B3BBDDDC8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9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8A4F-4758-4844-ABE7-A5769559E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85E2-894E-4C8D-80EA-E56F79EC9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FBB1-F9DA-4716-BBDA-63C5E604D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A2E1-C099-4DE3-B147-BA4B8A02C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B535-9ED7-4634-9C7B-72F6CA2E6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F515-8E42-4D08-A63F-5A20B838D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3708-2E08-470B-868C-6EF1AE3EA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EE07-571B-4515-B17A-CFF82D5B3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quest.net/biology/images/histology/anaphase-allium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Rep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ro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Eu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5" name="Picture 7" descr="plant"/>
          <p:cNvPicPr/>
          <p:nvPr/>
        </p:nvPicPr>
        <p:blipFill>
          <a:blip r:embed="rId1"/>
          <a:stretch/>
        </p:blipFill>
        <p:spPr>
          <a:xfrm>
            <a:off x="5867280" y="2286000"/>
            <a:ext cx="2895840" cy="354816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2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Time between DNA synthesis &amp;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continues grow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Needed proteins produc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growth &amp; protein production 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’s energy used to make 2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alled mitosis or karyokinesis (nuclear divis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fe Cycle of a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60" name="Picture 4" descr="mitosis"/>
          <p:cNvPicPr/>
          <p:nvPr/>
        </p:nvPicPr>
        <p:blipFill>
          <a:blip r:embed="rId1"/>
          <a:stretch/>
        </p:blipFill>
        <p:spPr>
          <a:xfrm>
            <a:off x="2438280" y="175248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9"/>
          <p:cNvSpPr/>
          <p:nvPr/>
        </p:nvSpPr>
        <p:spPr>
          <a:xfrm>
            <a:off x="709560" y="5715000"/>
            <a:ext cx="77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Mitosis is a cycle with n</a:t>
            </a: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o</a:t>
            </a: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 beginning or e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 – Resting St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s carrying on normal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aren’t vi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metabolism is occur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Occurs before mit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allium2"/>
          <p:cNvPicPr/>
          <p:nvPr/>
        </p:nvPicPr>
        <p:blipFill>
          <a:blip r:embed="rId1"/>
          <a:stretch/>
        </p:blipFill>
        <p:spPr>
          <a:xfrm>
            <a:off x="1447920" y="1981080"/>
            <a:ext cx="6667560" cy="35737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ges of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Pr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Met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An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Tel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s Undergoing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3" name="Picture 4" descr="Onion root tip cells undergoing mito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133720"/>
            <a:ext cx="5867280" cy="401472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DNA coils tightly &amp; becomes visible as chromos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lear membrane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eolus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ntrioles migrate to po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Spindle begins to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9" name="Picture 4" descr="56844b"/>
          <p:cNvPicPr/>
          <p:nvPr/>
        </p:nvPicPr>
        <p:blipFill>
          <a:blip r:embed="rId1"/>
          <a:stretch/>
        </p:blipFill>
        <p:spPr>
          <a:xfrm>
            <a:off x="1905120" y="1981080"/>
            <a:ext cx="5486400" cy="4324320"/>
          </a:xfrm>
          <a:prstGeom prst="rect">
            <a:avLst/>
          </a:prstGeom>
          <a:ln w="0">
            <a:noFill/>
          </a:ln>
        </p:spPr>
      </p:pic>
      <p:sp>
        <p:nvSpPr>
          <p:cNvPr id="6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ic Chromos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2" name="Picture 0" descr="chromosome1"/>
          <p:cNvPicPr/>
          <p:nvPr/>
        </p:nvPicPr>
        <p:blipFill>
          <a:blip r:embed="rId1"/>
          <a:stretch/>
        </p:blipFill>
        <p:spPr>
          <a:xfrm>
            <a:off x="1523880" y="2743200"/>
            <a:ext cx="6058080" cy="2811600"/>
          </a:xfrm>
          <a:prstGeom prst="rect">
            <a:avLst/>
          </a:prstGeom>
          <a:ln w="0">
            <a:noFill/>
          </a:ln>
        </p:spPr>
      </p:pic>
      <p:sp>
        <p:nvSpPr>
          <p:cNvPr id="6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Lack a nucleu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Have a single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Reproduce by binary fi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Include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uman Chromoso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5" name="Picture 0" descr="karyotyp"/>
          <p:cNvPicPr/>
          <p:nvPr/>
        </p:nvPicPr>
        <p:blipFill>
          <a:blip r:embed="rId1"/>
          <a:stretch/>
        </p:blipFill>
        <p:spPr>
          <a:xfrm>
            <a:off x="1143000" y="2590920"/>
            <a:ext cx="6477120" cy="304776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from centrioles attach to each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reparing to separate its chromoso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aligns its chromosomes in the middle of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3" descr="allium1"/>
          <p:cNvPicPr/>
          <p:nvPr/>
        </p:nvPicPr>
        <p:blipFill>
          <a:blip r:embed="rId1"/>
          <a:stretch/>
        </p:blipFill>
        <p:spPr>
          <a:xfrm>
            <a:off x="10288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chromosomes are separ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shorten so chromosomes pulled to ends of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totic Spind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7" name="Picture 4" descr="spindle"/>
          <p:cNvPicPr/>
          <p:nvPr/>
        </p:nvPicPr>
        <p:blipFill>
          <a:blip r:embed="rId1"/>
          <a:stretch/>
        </p:blipFill>
        <p:spPr>
          <a:xfrm>
            <a:off x="1752480" y="2286000"/>
            <a:ext cx="5635800" cy="3965400"/>
          </a:xfrm>
          <a:prstGeom prst="rect">
            <a:avLst/>
          </a:prstGeom>
          <a:ln w="0">
            <a:noFill/>
          </a:ln>
        </p:spPr>
      </p:pic>
      <p:sp>
        <p:nvSpPr>
          <p:cNvPr id="6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3" descr="allium3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eparation of chromosomes comple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late forms (plan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leavage furrow forms(animal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Nucleus &amp; nucleolus re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unco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7" name="Picture 7" descr="daughtercells"/>
          <p:cNvPicPr/>
          <p:nvPr/>
        </p:nvPicPr>
        <p:blipFill>
          <a:blip r:embed="rId1"/>
          <a:stretch/>
        </p:blipFill>
        <p:spPr>
          <a:xfrm>
            <a:off x="4876920" y="2133720"/>
            <a:ext cx="3886200" cy="38098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9" descr="Telophase (in center)"/>
          <p:cNvPicPr/>
          <p:nvPr/>
        </p:nvPicPr>
        <p:blipFill>
          <a:blip r:embed="rId2"/>
          <a:stretch/>
        </p:blipFill>
        <p:spPr>
          <a:xfrm>
            <a:off x="609480" y="21337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20"/>
          <p:cNvSpPr/>
          <p:nvPr/>
        </p:nvSpPr>
        <p:spPr>
          <a:xfrm>
            <a:off x="1732680" y="6093000"/>
            <a:ext cx="24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Pla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Text Box 22"/>
          <p:cNvSpPr/>
          <p:nvPr/>
        </p:nvSpPr>
        <p:spPr>
          <a:xfrm>
            <a:off x="6509160" y="61326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Occurs after chromosomes separ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orms two, identical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716" name="Picture 3" descr="teloph"/>
          <p:cNvPicPr/>
          <p:nvPr/>
        </p:nvPicPr>
        <p:blipFill>
          <a:blip r:embed="rId1"/>
          <a:stretch/>
        </p:blipFill>
        <p:spPr>
          <a:xfrm>
            <a:off x="1600200" y="1679400"/>
            <a:ext cx="5638680" cy="38354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0"/>
          <p:cNvSpPr/>
          <p:nvPr/>
        </p:nvSpPr>
        <p:spPr>
          <a:xfrm flipH="1">
            <a:off x="1219320" y="5716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ll Plate Forming in Plant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Used by bac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ells increase their cell mass sligh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DNA &amp; cell components are replic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Each cell divides into 2 daughter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2" name="Picture 8" descr="Binary Fission of rod-shaped bacterial cell"/>
          <p:cNvPicPr/>
          <p:nvPr/>
        </p:nvPicPr>
        <p:blipFill>
          <a:blip r:embed="rId1"/>
          <a:stretch/>
        </p:blipFill>
        <p:spPr>
          <a:xfrm>
            <a:off x="5105520" y="26668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nary Fission of Bacterial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5" name="Picture 4" descr="69091a"/>
          <p:cNvPicPr/>
          <p:nvPr/>
        </p:nvPicPr>
        <p:blipFill>
          <a:blip r:embed="rId1"/>
          <a:stretch/>
        </p:blipFill>
        <p:spPr>
          <a:xfrm>
            <a:off x="1600200" y="2133720"/>
            <a:ext cx="5257800" cy="4173480"/>
          </a:xfrm>
          <a:prstGeom prst="rect">
            <a:avLst/>
          </a:prstGeom>
          <a:ln w="0">
            <a:noFill/>
          </a:ln>
        </p:spPr>
      </p:pic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. Coli Dividing by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8" name="Picture 5" descr="96444c"/>
          <p:cNvPicPr/>
          <p:nvPr/>
        </p:nvPicPr>
        <p:blipFill>
          <a:blip r:embed="rId1"/>
          <a:stretch/>
        </p:blipFill>
        <p:spPr>
          <a:xfrm>
            <a:off x="1143000" y="2068560"/>
            <a:ext cx="7086600" cy="4253040"/>
          </a:xfrm>
          <a:prstGeom prst="rect">
            <a:avLst/>
          </a:prstGeom>
          <a:ln w="0">
            <a:noFill/>
          </a:ln>
        </p:spPr>
      </p:pic>
      <p:sp>
        <p:nvSpPr>
          <p:cNvPr id="6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ntain a nucleus &amp; membrane bound organel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Asexually reproduce cells by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tages in growth &amp; di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1 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2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M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ytokin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7" descr="cellcycle"/>
          <p:cNvPicPr/>
          <p:nvPr/>
        </p:nvPicPr>
        <p:blipFill>
          <a:blip r:embed="rId1"/>
          <a:stretch/>
        </p:blipFill>
        <p:spPr>
          <a:xfrm>
            <a:off x="4648320" y="2286000"/>
            <a:ext cx="3809880" cy="3611520"/>
          </a:xfrm>
          <a:prstGeom prst="rect">
            <a:avLst/>
          </a:prstGeom>
          <a:ln w="0">
            <a:noFill/>
          </a:ln>
        </p:spPr>
      </p:pic>
      <p:sp>
        <p:nvSpPr>
          <p:cNvPr id="6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1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irst growth st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increases in si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prepares to copy its D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ynthesis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pying of all of DNA’s instruc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hromosomes duplica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22:28:00Z</dcterms:created>
  <dc:creator>Cheryl Massengale</dc:creator>
  <dc:description/>
  <dc:language>en-US</dc:language>
  <cp:lastModifiedBy>LEGION</cp:lastModifiedBy>
  <dcterms:modified xsi:type="dcterms:W3CDTF">2016-12-07T12:34:55Z</dcterms:modified>
  <cp:revision>26</cp:revision>
  <dc:subject/>
  <dc:title>cell reproduction</dc:title>
</cp:coreProperties>
</file>